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DC6-E313-4BC5-BC37-804A1CA5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BE7-F3FB-41B3-9C06-CD2B8A2F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E28-0863-48C0-BB23-DA5265BD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7FA-E288-4840-A637-6BCE79A5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9C1-F799-45A1-B81D-C72F7B3C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3EB-FC05-45E2-9BDA-260A940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C05-BC6E-4524-BFB4-B069505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366-779D-407E-8DC9-7A48C31A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D50-7A7C-4C34-A54D-875E18EB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8AE-85AB-4F22-B350-49A0F78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166-3843-443F-BDA0-79A3A153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77D-E493-47A6-B23B-C7547D8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F496-B96D-44D6-9805-1CBE91F3B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Pet Care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4228920" cy="603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dwilliams2\AppData\Local\Microsoft\Windows\Temporary Internet Files\Content.IE5\6WO1AC7T\MC900438046[1].png"/>
          <p:cNvPicPr/>
          <p:nvPr/>
        </p:nvPicPr>
        <p:blipFill>
          <a:blip r:embed="rId2"/>
          <a:stretch/>
        </p:blipFill>
        <p:spPr>
          <a:xfrm>
            <a:off x="4952880" y="1727280"/>
            <a:ext cx="1662120" cy="1811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dwilliams2\AppData\Local\Microsoft\Windows\Temporary Internet Files\Content.IE5\6WO1AC7T\MC900232945[1].wmf"/>
          <p:cNvPicPr/>
          <p:nvPr/>
        </p:nvPicPr>
        <p:blipFill>
          <a:blip r:embed="rId3"/>
          <a:stretch/>
        </p:blipFill>
        <p:spPr>
          <a:xfrm>
            <a:off x="4952880" y="7518240"/>
            <a:ext cx="1690920" cy="149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dwilliams2\AppData\Local\Microsoft\Windows\Temporary Internet Files\Content.IE5\2DC45C48\MP900427744[1].jpg"/>
          <p:cNvPicPr/>
          <p:nvPr/>
        </p:nvPicPr>
        <p:blipFill>
          <a:blip r:embed="rId4"/>
          <a:stretch/>
        </p:blipFill>
        <p:spPr>
          <a:xfrm>
            <a:off x="5181480" y="5892840"/>
            <a:ext cx="1424160" cy="172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dwilliams2\AppData\Local\Microsoft\Windows\Temporary Internet Files\Content.IE5\ES5BI6NL\MP900438804[1].jpg"/>
          <p:cNvPicPr/>
          <p:nvPr/>
        </p:nvPicPr>
        <p:blipFill>
          <a:blip r:embed="rId5"/>
          <a:stretch/>
        </p:blipFill>
        <p:spPr>
          <a:xfrm>
            <a:off x="5105520" y="4927680"/>
            <a:ext cx="1495440" cy="132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dwilliams2\AppData\Local\Microsoft\Windows\Temporary Internet Files\Content.IE5\WGVGCCAF\MP900427655[1].jpg"/>
          <p:cNvPicPr/>
          <p:nvPr/>
        </p:nvPicPr>
        <p:blipFill>
          <a:blip r:embed="rId6"/>
          <a:stretch/>
        </p:blipFill>
        <p:spPr>
          <a:xfrm>
            <a:off x="4952880" y="3759120"/>
            <a:ext cx="14828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2:58:55Z</dcterms:created>
  <dc:creator>Deborah Williams</dc:creator>
  <dc:description/>
  <dc:language>en-US</dc:language>
  <cp:lastModifiedBy>Deborah Williams</cp:lastModifiedBy>
  <dcterms:modified xsi:type="dcterms:W3CDTF">2012-11-05T13:13:38Z</dcterms:modified>
  <cp:revision>2</cp:revision>
  <dc:subject/>
  <dc:title>Pet Care Tips</dc:title>
</cp:coreProperties>
</file>